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B95D-3922-4ECD-B6C0-FDBC9D61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6ED7-FEC7-44C0-9026-36A64FCF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9A45-14DC-4C96-AE51-FBCD37CF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020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784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56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020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784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05E6-23BF-40E9-943C-300F7AD6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9B49-DB15-4A7C-9903-26B37624A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D969-C9C1-490A-B7EB-A13A6238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617E-5DA9-4A23-871C-72BE633A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4C6E-1A8D-4C7B-AA4E-12B0BCBB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B5C0-116F-42D4-AD1C-E6E756C8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73200" y="188640"/>
            <a:ext cx="7797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901E-C025-4C46-97FE-ED2F9D30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5D70-CC28-41FF-BB67-33167C66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4184-B0CB-41ED-9687-05C91EEB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B04B-9629-4389-B0EC-85A43F4F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12D5-4FEC-4E16-80CF-B59E9204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13FA-1411-4CF4-89B0-FB1625C7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F1EB-3B2F-42B6-83D1-3A030E53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0020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4784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5256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0020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4784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6A2A-748C-4D58-A68C-9CE86ACA0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939E2-9AC0-466B-A9E0-C3F2BDC8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71584-853C-4DDF-B7CB-9138A436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84E08-3B53-4D00-82C5-544C6C6C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A2F90-992D-4E04-A2A5-C289A2D4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C3560-AC9B-4221-B642-A7B1C07F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A293-8530-476F-B0B8-92A574E9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73200" y="188640"/>
            <a:ext cx="7797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CAD70-473B-431B-8A52-312833FF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D8C03-7A9A-4525-B3F6-96327589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3F1BF-7E51-41D8-A141-3F5067E0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06BA9-69B7-4E11-B57C-3FE0756F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BE598-7CD6-4031-B510-0D3CF688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F46EE-FF53-4C06-8F72-13313EF7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0020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84784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95256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0020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84784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3D304-95BF-4F4A-A580-35653C40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314A0-0C64-4752-85B1-4A27948D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E0A36-ADFC-4384-A542-1F34D0EB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FF4F4-8EB5-4E6E-AF61-EC1CE3CB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E747-E461-4D23-A628-9EF59E54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B2A48-4F63-4AE6-8526-9E4F6E7C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A220B-6462-4D70-A603-EE127131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73200" y="188640"/>
            <a:ext cx="7797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2D00B-8546-48A7-8859-94F4F838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111BA-F253-428D-AE61-6BFE6C07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F522A-932E-4FE0-A1EA-A9D91062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818EC-6AD1-49B0-8A72-4E1BF1D5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B6306-ACFF-4B96-81E1-A239844F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74D1E-8FEA-4928-BFDF-848C75D8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40020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84784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5256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40020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84784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FB8E9-95ED-4692-864D-CC686D8A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948C-16E2-47B4-B457-84986ECD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3200" y="188640"/>
            <a:ext cx="7797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8CD1-38CB-40BA-B750-1612CDA8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98BE-D12E-44FC-AAC0-35E323D0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157B-C6F4-4E42-A6D9-0CD183E2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3730-B103-4D0B-8681-64CB264E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c5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resh Mast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52560" y="6552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77040" y="655272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6310-7F0E-4B97-ADB0-071D63AD1E33}" type="slidenum"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c5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Fresh title.png"/>
          <p:cNvPicPr/>
          <p:nvPr/>
        </p:nvPicPr>
        <p:blipFill>
          <a:blip r:embed="rId2"/>
          <a:srcRect l="0" t="0" r="0" b="39778"/>
          <a:stretch/>
        </p:blipFill>
        <p:spPr>
          <a:xfrm>
            <a:off x="0" y="1566720"/>
            <a:ext cx="9144000" cy="2243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Fresh title.png"/>
          <p:cNvPicPr/>
          <p:nvPr/>
        </p:nvPicPr>
        <p:blipFill>
          <a:blip r:embed="rId3"/>
          <a:srcRect l="0" t="33639" r="0" b="59391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324480" y="6288120"/>
            <a:ext cx="198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5440" y="62881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381520" y="62881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F9C3-E7DF-4F4B-B8B4-AE7711582F56}" type="slidenum"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c5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Fresh section.png"/>
          <p:cNvPicPr/>
          <p:nvPr/>
        </p:nvPicPr>
        <p:blipFill>
          <a:blip r:embed="rId2"/>
          <a:stretch/>
        </p:blipFill>
        <p:spPr>
          <a:xfrm>
            <a:off x="0" y="3767040"/>
            <a:ext cx="9144000" cy="3090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72840" y="6553080"/>
            <a:ext cx="19810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620880" y="6553080"/>
            <a:ext cx="28954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759440" y="6553080"/>
            <a:ext cx="6858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444A-04F1-4E25-A914-AE773C533E9E}" type="slidenum"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c5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Fresh Mast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4675320" y="1841400"/>
            <a:ext cx="3504960" cy="39625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990720" y="1841400"/>
            <a:ext cx="3504960" cy="39625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952560" y="6552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5527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277040" y="655272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9E3D-DBB3-407A-9EC9-CF0BF8F58940}" type="slidenum"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youtu.be/ufstmgDtNrM" TargetMode="External"/><Relationship Id="rId3" Type="http://schemas.openxmlformats.org/officeDocument/2006/relationships/hyperlink" Target="http://youtu.be/_S0Rdy41NFg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passionplay-oberammergau.com/index.php?id=59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317520" y="1133640"/>
            <a:ext cx="8143920" cy="18842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440" y="4114800"/>
            <a:ext cx="5257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066-1485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Title 1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016840" cy="17254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Hero =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Evil enemy = 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Quest =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Test of a hero =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upernatural elements =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Good vs. evil =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Female figure =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Title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077320" cy="1792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n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excerpt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from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Le Morte d’Arthur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or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he Death of Arthur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ritten by Sir Thomas Mallory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rchetype – a model; someone who is familiar to all, regardless to time or place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Arthur is an archetype of the romance hero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Title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077320" cy="1792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opy vocabulary from page 215 in your textbook.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016840" cy="17254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Near-perfect hero =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Evil enemy =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Quest =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Test of a hero =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upernatural elements =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Good vs. evil =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Female figure =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077320" cy="1792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ritten by Giovanni Boccaccio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ritten in Italian vernacular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art of the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ecameron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00 tales which deal with love and the corruption of the clergy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daptations of popular folk tales, fables, anecdotes, or jokes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Title 1" descr=""/>
          <p:cNvPicPr/>
          <p:nvPr/>
        </p:nvPicPr>
        <p:blipFill>
          <a:blip r:embed="rId1"/>
          <a:stretch/>
        </p:blipFill>
        <p:spPr>
          <a:xfrm>
            <a:off x="347760" y="189000"/>
            <a:ext cx="8126280" cy="1834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opy vocabulary from page 208.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Title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077320" cy="1792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n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introductory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narrative within which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each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of the characters proceed to tell individual stories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ecameron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en wealthy Florentines leave the city to escape the plague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For each of ten days, a king or queen will be named.  He or she will select a theme, and the others will tell stories based on the theme.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Federigo’s Falcon” was the 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man Old Style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story told on the 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man Old Style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day, a day devoted to stories with happy endings.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itle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077320" cy="17920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a6a21"/>
                </a:solidFill>
                <a:uFillTx/>
                <a:latin typeface="Bookman Old Style"/>
                <a:hlinkClick r:id="rId2"/>
              </a:rPr>
              <a:t>http://youtu.be/ufstmgDtNrM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a6a21"/>
                </a:solidFill>
                <a:uFillTx/>
                <a:latin typeface="Bookman Old Style"/>
                <a:hlinkClick r:id="rId3"/>
              </a:rPr>
              <a:t>http://youtu.be/_S0Rdy41NFg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077320" cy="1279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685440" y="1142640"/>
            <a:ext cx="7505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Originated in the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church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rovided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religiou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instruction since most of the population could not read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Mystery plays – based on Biblical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history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Bookman Old Style"/>
              </a:rPr>
              <a:t>(mystery and history rhyme)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Passion plays – re-enacted events in the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last week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of the life of 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Christ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(Last Supper, Betrayal, Crucifixion)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Miracle plays – based on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storie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of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saint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Bookman Old Style"/>
              </a:rPr>
              <a:t>(saints performed miracles)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Morality plays – featured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personified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virtues and vices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Member of guilds presented these plays, performing parts of the story that best represented their crafts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Title 1" descr=""/>
          <p:cNvPicPr/>
          <p:nvPr/>
        </p:nvPicPr>
        <p:blipFill>
          <a:blip r:embed="rId1"/>
          <a:stretch/>
        </p:blipFill>
        <p:spPr>
          <a:xfrm>
            <a:off x="487440" y="189000"/>
            <a:ext cx="7986600" cy="16952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a6a21"/>
                </a:solidFill>
                <a:uFillTx/>
                <a:latin typeface="Bookman Old Style"/>
                <a:hlinkClick r:id="rId2"/>
              </a:rPr>
              <a:t>http://www.passionplay-oberammergau.com/index.php?id=59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Title 1" descr=""/>
          <p:cNvPicPr/>
          <p:nvPr/>
        </p:nvPicPr>
        <p:blipFill>
          <a:blip r:embed="rId1"/>
          <a:stretch/>
        </p:blipFill>
        <p:spPr>
          <a:xfrm>
            <a:off x="396720" y="109440"/>
            <a:ext cx="8320320" cy="1285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952560" y="144792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 song or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songlike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oem that tells a story in a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regular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attern of rhythm and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rhyme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nd uses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simple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direct language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omes from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oral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tradition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No strict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rule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dictating their form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omes from an old French word meaning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“dancing song”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liques of Ancient English Poetry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– a collection of ballads gathered by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Sir Thomas Percy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nd published in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1765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Encouraged others to collect ballads from the people who 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sang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them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Title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077320" cy="17920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Every day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life of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common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folk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Supernatural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events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ensational,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sordid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or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tragic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subject matter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077320" cy="1431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952560" y="144792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Simple and 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Little or no 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background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457200" indent="-457200">
              <a:spcBef>
                <a:spcPts val="1800"/>
              </a:spcBef>
              <a:buClr>
                <a:srgbClr val="ff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Question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and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answer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format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5716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Details are gathered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little by little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from the answers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5716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Helps build 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suspense 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Bookman Old Styl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Refrain – 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repetition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of the last line or two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457200" indent="-457200">
              <a:spcBef>
                <a:spcPts val="1800"/>
              </a:spcBef>
              <a:buClr>
                <a:srgbClr val="ff0000"/>
              </a:buClr>
              <a:buFont typeface="Bookman Old Styl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Incremental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repetition – repetition of lines with slight 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variations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Bookman Old Styl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Musical – meant to be 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sung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for a general audience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5716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Strong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, simple beat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7.  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Conventional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phrases – understood by listeners to have 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meaning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beyond their 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literal ones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5716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Title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077320" cy="1792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952560" y="198108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 verse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narrative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hich traces the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adventure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of a brave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knight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or other hero who has to overcome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danger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for love a noble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lady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or other high idea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et in a world in which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ordinary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laws are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suspended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nd idealized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heroe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fight, and almost always,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conquer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the forces of evi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itle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077320" cy="17920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Usually born under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mysteriou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ircumstances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Grows up in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obscurity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Undergoes a childhood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ritual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involving a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magic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eapon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In maturity, fights to defeat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evil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nd promote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peace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ided by magic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weapon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mentors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Mysteriou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events surround his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departure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from this world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Title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077320" cy="1792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Bookman Old Style"/>
              </a:rPr>
              <a:t>Near-perfect</a:t>
            </a:r>
            <a:r>
              <a:rPr b="0" lang="en-US" sz="19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Bookman Old Style"/>
              </a:rPr>
              <a:t>hero</a:t>
            </a:r>
            <a:endParaRPr b="0" lang="en-US" sz="19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man Old Style"/>
              </a:rPr>
              <a:t>Evil</a:t>
            </a:r>
            <a:r>
              <a:rPr b="0" lang="en-US" sz="19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900" spc="-1" strike="noStrike">
                <a:solidFill>
                  <a:srgbClr val="ff0000"/>
                </a:solidFill>
                <a:latin typeface="Bookman Old Style"/>
              </a:rPr>
              <a:t>enemy</a:t>
            </a:r>
            <a:endParaRPr b="0" lang="en-US" sz="19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man Old Style"/>
              </a:rPr>
              <a:t>Quest – a </a:t>
            </a:r>
            <a:r>
              <a:rPr b="0" lang="en-US" sz="1900" spc="-1" strike="noStrike">
                <a:solidFill>
                  <a:srgbClr val="ff0000"/>
                </a:solidFill>
                <a:latin typeface="Bookman Old Style"/>
              </a:rPr>
              <a:t>dangerous </a:t>
            </a:r>
            <a:r>
              <a:rPr b="0" lang="en-US" sz="1900" spc="-1" strike="noStrike">
                <a:solidFill>
                  <a:srgbClr val="000000"/>
                </a:solidFill>
                <a:latin typeface="Bookman Old Style"/>
              </a:rPr>
              <a:t>journey in search of something of </a:t>
            </a:r>
            <a:r>
              <a:rPr b="0" lang="en-US" sz="1900" spc="-1" strike="noStrike">
                <a:solidFill>
                  <a:srgbClr val="ff0000"/>
                </a:solidFill>
                <a:latin typeface="Bookman Old Style"/>
              </a:rPr>
              <a:t>value</a:t>
            </a:r>
            <a:endParaRPr b="0" lang="en-US" sz="19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Bookman Old Style"/>
              </a:rPr>
              <a:t>Test</a:t>
            </a:r>
            <a:r>
              <a:rPr b="0" lang="en-US" sz="19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Bookman Old Style"/>
              </a:rPr>
              <a:t>of a hero</a:t>
            </a:r>
            <a:endParaRPr b="0" lang="en-US" sz="19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Bookman Old Style"/>
              </a:rPr>
              <a:t>Supernatural</a:t>
            </a:r>
            <a:r>
              <a:rPr b="0" lang="en-US" sz="19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Bookman Old Style"/>
              </a:rPr>
              <a:t>elements</a:t>
            </a:r>
            <a:endParaRPr b="0" lang="en-US" sz="19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man Old Style"/>
              </a:rPr>
              <a:t>Good vs. </a:t>
            </a:r>
            <a:r>
              <a:rPr b="0" lang="en-US" sz="1900" spc="-1" strike="noStrike">
                <a:solidFill>
                  <a:srgbClr val="ff0000"/>
                </a:solidFill>
                <a:latin typeface="Bookman Old Style"/>
              </a:rPr>
              <a:t>evil</a:t>
            </a:r>
            <a:endParaRPr b="0" lang="en-US" sz="19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Bookman Old Style"/>
              </a:rPr>
              <a:t>Female</a:t>
            </a:r>
            <a:r>
              <a:rPr b="0" lang="en-US" sz="19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Bookman Old Style"/>
              </a:rPr>
              <a:t>figure – maidens, mothers, crones (witch-like old lady)</a:t>
            </a:r>
            <a:endParaRPr b="0" lang="en-US" sz="19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Title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077320" cy="1792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Dangerou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journey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 test of the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hero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 return to the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starting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oin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he hero wants or needs to obtain something of value and then return home.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Title 1" descr=""/>
          <p:cNvPicPr/>
          <p:nvPr/>
        </p:nvPicPr>
        <p:blipFill>
          <a:blip r:embed="rId1"/>
          <a:stretch/>
        </p:blipFill>
        <p:spPr>
          <a:xfrm>
            <a:off x="396720" y="-36360"/>
            <a:ext cx="8077320" cy="2017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robably written around 1375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Ideals of knightly conduct such as courage, loyalty, and courtesy were beginning to erode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ir Gawain is one of King Arthur’s knights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2:56:06Z</dcterms:created>
  <dc:creator>pcoles</dc:creator>
  <dc:description/>
  <dc:language>en-US</dc:language>
  <cp:lastModifiedBy>user</cp:lastModifiedBy>
  <dcterms:modified xsi:type="dcterms:W3CDTF">2013-02-20T14:24:46Z</dcterms:modified>
  <cp:revision>86</cp:revision>
  <dc:subject/>
  <dc:title>Medieval Literature</dc:title>
</cp:coreProperties>
</file>